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type.wav" ContentType="audio/x-wav"/>
  <Override PartName="/ppt/media/image1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motor.wav" ContentType="audio/x-wav"/>
  <Override PartName="/ppt/media/image15.png" ContentType="image/png"/>
  <Override PartName="/ppt/media/image14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7E8-78BF-479A-B96A-F8B7E0D8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93680" y="420912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0BA-7E33-4B14-B834-BC8E9A09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904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276-40EC-429A-A19D-2DBC35A8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004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9368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8004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DD7-4589-4DA6-AE3A-FBD987C2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909B-46A0-45D6-81BD-DF88194D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DCCD-8506-444A-82DE-AD1F9B0C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44D7-67AA-4761-8F47-1F860B9C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1E1C-C830-4A5F-AD44-DE5A8EFC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001A-7B26-4212-8C5A-1886F38F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93680" y="838080"/>
            <a:ext cx="676260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ED88-30D8-452D-AD91-E83FB78F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B2C4-35FF-47F7-A56C-B10A27F9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ABD3-78A9-4C3E-A43C-D37A50B8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904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BC5B-3CE1-490D-8A1B-B3429A8B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6177-F9BF-4628-92C6-27250B40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93680" y="420912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53E5-D783-4368-8A9D-00A5690E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904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FE55-E092-4E5D-8877-96D1BE2F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004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6676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9368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8004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6676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038A-1439-40F4-B2B3-5CFEA21E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EF5-1E95-4EBB-AC60-53C62A33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C6A-C684-4814-BC4D-F08D502F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C0D5-CE2F-4F66-B592-C803179F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93680" y="838080"/>
            <a:ext cx="676260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B68-4A1E-4084-B493-7831D87D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771-7531-401A-95F3-A8CFFCA7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904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463-6566-4877-A499-9EDAA3B8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4A4-F09F-4715-9390-12E57F1B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7BF3-9626-49B0-A049-32B9227FB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5FC3-9BE1-4009-A4F0-5DACC06FF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moto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2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 or Me?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55960"/>
            <a:ext cx="64008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ing I or 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ontknow"/>
          <p:cNvPicPr/>
          <p:nvPr/>
        </p:nvPicPr>
        <p:blipFill>
          <a:blip r:embed="rId1"/>
          <a:stretch/>
        </p:blipFill>
        <p:spPr>
          <a:xfrm>
            <a:off x="3276720" y="4648320"/>
            <a:ext cx="2190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t beside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erry and 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oys"/>
          <p:cNvPicPr/>
          <p:nvPr/>
        </p:nvPicPr>
        <p:blipFill>
          <a:blip r:embed="rId1"/>
          <a:stretch/>
        </p:blipFill>
        <p:spPr>
          <a:xfrm>
            <a:off x="4114800" y="2743200"/>
            <a:ext cx="2709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93680" y="1714320"/>
            <a:ext cx="67626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 when do you use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with the other person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na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ttentive"/>
          <p:cNvPicPr/>
          <p:nvPr/>
        </p:nvPicPr>
        <p:blipFill>
          <a:blip r:embed="rId1"/>
          <a:stretch/>
        </p:blipFill>
        <p:spPr>
          <a:xfrm>
            <a:off x="3691080" y="3421080"/>
            <a:ext cx="32432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4800" spc="-1" strike="noStrike">
                <a:solidFill>
                  <a:srgbClr val="cc0000"/>
                </a:solidFill>
                <a:latin typeface="Arial"/>
              </a:rPr>
              <a:t>And Trick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3360" y="259092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ver the word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and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lus the other perso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name.  Read the sentence and listen for the correct pronou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agic"/>
          <p:cNvPicPr/>
          <p:nvPr/>
        </p:nvPicPr>
        <p:blipFill>
          <a:blip r:embed="rId1"/>
          <a:stretch/>
        </p:blipFill>
        <p:spPr>
          <a:xfrm>
            <a:off x="6781680" y="0"/>
            <a:ext cx="1860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And Trick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01760" y="2496960"/>
            <a:ext cx="78422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bert and I walked hom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676520" y="2438280"/>
            <a:ext cx="28191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kids6"/>
          <p:cNvPicPr/>
          <p:nvPr/>
        </p:nvPicPr>
        <p:blipFill>
          <a:blip r:embed="rId1"/>
          <a:stretch/>
        </p:blipFill>
        <p:spPr>
          <a:xfrm>
            <a:off x="3962520" y="3733920"/>
            <a:ext cx="2361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And Trick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573280"/>
            <a:ext cx="83822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ive the paper to Steve and m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486400" y="2514600"/>
            <a:ext cx="2590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copypaper_color"/>
          <p:cNvPicPr/>
          <p:nvPr/>
        </p:nvPicPr>
        <p:blipFill>
          <a:blip r:embed="rId1"/>
          <a:stretch/>
        </p:blipFill>
        <p:spPr>
          <a:xfrm>
            <a:off x="2057400" y="3314880"/>
            <a:ext cx="52387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 the sentence that correctly uses I and m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eager"/>
          <p:cNvPicPr/>
          <p:nvPr/>
        </p:nvPicPr>
        <p:blipFill>
          <a:blip r:embed="rId1"/>
          <a:stretch/>
        </p:blipFill>
        <p:spPr>
          <a:xfrm>
            <a:off x="3962520" y="3505320"/>
            <a:ext cx="2968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ke and I worked for hour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ke and me worked for hour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00200" y="2209680"/>
            <a:ext cx="2057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600200" y="2895480"/>
            <a:ext cx="2057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comptrkids"/>
          <p:cNvPicPr/>
          <p:nvPr/>
        </p:nvPicPr>
        <p:blipFill>
          <a:blip r:embed="rId1"/>
          <a:stretch/>
        </p:blipFill>
        <p:spPr>
          <a:xfrm>
            <a:off x="3352680" y="3581280"/>
            <a:ext cx="36576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b and I rode the bu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b and me rode the bu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676520" y="22096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1676520" y="28954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6" descr="bus-catch"/>
          <p:cNvPicPr/>
          <p:nvPr/>
        </p:nvPicPr>
        <p:blipFill>
          <a:blip r:embed="rId1"/>
          <a:stretch/>
        </p:blipFill>
        <p:spPr>
          <a:xfrm>
            <a:off x="3733920" y="3809880"/>
            <a:ext cx="26668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o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p Gary and me paint thi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p Gary and I paint thi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743200" y="2209680"/>
            <a:ext cx="2057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743200" y="2971800"/>
            <a:ext cx="2057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Artwork"/>
          <p:cNvPicPr/>
          <p:nvPr/>
        </p:nvPicPr>
        <p:blipFill>
          <a:blip r:embed="rId1"/>
          <a:stretch/>
        </p:blipFill>
        <p:spPr>
          <a:xfrm>
            <a:off x="3733920" y="3276720"/>
            <a:ext cx="3162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 sits behind Sue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 sits behind Sue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181480" y="22096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181480" y="28954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6" descr="i-know"/>
          <p:cNvPicPr/>
          <p:nvPr/>
        </p:nvPicPr>
        <p:blipFill>
          <a:blip r:embed="rId1"/>
          <a:stretch/>
        </p:blipFill>
        <p:spPr>
          <a:xfrm>
            <a:off x="3429000" y="3886200"/>
            <a:ext cx="25812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3047760"/>
            <a:ext cx="67626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n you write about yourself, you use the pronouns I or me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nnouncing"/>
          <p:cNvPicPr/>
          <p:nvPr/>
        </p:nvPicPr>
        <p:blipFill>
          <a:blip r:embed="rId1"/>
          <a:stretch/>
        </p:blipFill>
        <p:spPr>
          <a:xfrm>
            <a:off x="6781680" y="952560"/>
            <a:ext cx="18576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one looked at Hal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one looked at Hal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019920" y="2209680"/>
            <a:ext cx="16761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6019920" y="2895480"/>
            <a:ext cx="16761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boys"/>
          <p:cNvPicPr/>
          <p:nvPr/>
        </p:nvPicPr>
        <p:blipFill>
          <a:blip r:embed="rId1"/>
          <a:stretch/>
        </p:blipFill>
        <p:spPr>
          <a:xfrm>
            <a:off x="3886200" y="4038480"/>
            <a:ext cx="22669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I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me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cone-strawberry"/>
          <p:cNvPicPr/>
          <p:nvPr/>
        </p:nvPicPr>
        <p:blipFill>
          <a:blip r:embed="rId1"/>
          <a:stretch/>
        </p:blipFill>
        <p:spPr>
          <a:xfrm>
            <a:off x="3733920" y="3457440"/>
            <a:ext cx="23050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I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me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one-strawberry"/>
          <p:cNvPicPr/>
          <p:nvPr/>
        </p:nvPicPr>
        <p:blipFill>
          <a:blip r:embed="rId1"/>
          <a:stretch/>
        </p:blipFill>
        <p:spPr>
          <a:xfrm>
            <a:off x="3733920" y="3457440"/>
            <a:ext cx="2305080" cy="34005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1523880" y="2057400"/>
            <a:ext cx="2667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523880" y="2819520"/>
            <a:ext cx="2667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I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cone-strawberry"/>
          <p:cNvPicPr/>
          <p:nvPr/>
        </p:nvPicPr>
        <p:blipFill>
          <a:blip r:embed="rId1"/>
          <a:stretch/>
        </p:blipFill>
        <p:spPr>
          <a:xfrm>
            <a:off x="3733920" y="3457440"/>
            <a:ext cx="23050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one wanted help from Ted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one wanted help from Ted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ontacts"/>
          <p:cNvPicPr/>
          <p:nvPr/>
        </p:nvPicPr>
        <p:blipFill>
          <a:blip r:embed="rId1"/>
          <a:stretch/>
        </p:blipFill>
        <p:spPr>
          <a:xfrm>
            <a:off x="4114800" y="4038480"/>
            <a:ext cx="2627280" cy="26672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6934320" y="2133720"/>
            <a:ext cx="1828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6934320" y="3352680"/>
            <a:ext cx="1828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one wanted help from Ted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contacts"/>
          <p:cNvPicPr/>
          <p:nvPr/>
        </p:nvPicPr>
        <p:blipFill>
          <a:blip r:embed="rId1"/>
          <a:stretch/>
        </p:blipFill>
        <p:spPr>
          <a:xfrm>
            <a:off x="4114800" y="4038480"/>
            <a:ext cx="2627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Kathy and I finished, we put our books awa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Kathy and me finished, we put our books awa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boyteach"/>
          <p:cNvPicPr/>
          <p:nvPr/>
        </p:nvPicPr>
        <p:blipFill>
          <a:blip r:embed="rId1"/>
          <a:stretch/>
        </p:blipFill>
        <p:spPr>
          <a:xfrm>
            <a:off x="3657600" y="4524480"/>
            <a:ext cx="2752560" cy="24098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2819520" y="2209680"/>
            <a:ext cx="2209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819520" y="3352680"/>
            <a:ext cx="2209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8960" y="242100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Kathy and I finished, we put our books awa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boyteach"/>
          <p:cNvPicPr/>
          <p:nvPr/>
        </p:nvPicPr>
        <p:blipFill>
          <a:blip r:embed="rId1"/>
          <a:stretch/>
        </p:blipFill>
        <p:spPr>
          <a:xfrm>
            <a:off x="3657600" y="4524480"/>
            <a:ext cx="27525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81532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e the chair beside John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e the chair beside John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chairstudents"/>
          <p:cNvPicPr/>
          <p:nvPr/>
        </p:nvPicPr>
        <p:blipFill>
          <a:blip r:embed="rId1"/>
          <a:stretch/>
        </p:blipFill>
        <p:spPr>
          <a:xfrm>
            <a:off x="4095720" y="3619440"/>
            <a:ext cx="2792520" cy="32385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6324480" y="205740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324480" y="281952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81532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e the chair beside John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chairstudents"/>
          <p:cNvPicPr/>
          <p:nvPr/>
        </p:nvPicPr>
        <p:blipFill>
          <a:blip r:embed="rId1"/>
          <a:stretch/>
        </p:blipFill>
        <p:spPr>
          <a:xfrm>
            <a:off x="4095720" y="3619440"/>
            <a:ext cx="2792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like to go to church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church"/>
          <p:cNvPicPr/>
          <p:nvPr/>
        </p:nvPicPr>
        <p:blipFill>
          <a:blip r:embed="rId1"/>
          <a:stretch/>
        </p:blipFill>
        <p:spPr>
          <a:xfrm>
            <a:off x="4062240" y="2747880"/>
            <a:ext cx="244800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m opened the door for Nana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m opened the door for Nana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6934320" y="2057400"/>
            <a:ext cx="2133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934320" y="3429000"/>
            <a:ext cx="2133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0" descr="door-open"/>
          <p:cNvPicPr/>
          <p:nvPr/>
        </p:nvPicPr>
        <p:blipFill>
          <a:blip r:embed="rId1"/>
          <a:stretch/>
        </p:blipFill>
        <p:spPr>
          <a:xfrm>
            <a:off x="4038480" y="4191120"/>
            <a:ext cx="190512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m opened the door for Nana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door-open"/>
          <p:cNvPicPr/>
          <p:nvPr/>
        </p:nvPicPr>
        <p:blipFill>
          <a:blip r:embed="rId1"/>
          <a:stretch/>
        </p:blipFill>
        <p:spPr>
          <a:xfrm>
            <a:off x="4038480" y="4191120"/>
            <a:ext cx="190512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member the </a:t>
            </a: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And Tes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using I or me and another perso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name, cover the word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and</a:t>
            </a:r>
            <a:r>
              <a:rPr b="1" i="1" lang="ja-JP" sz="32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other perso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name to find which pronoun would be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magic"/>
          <p:cNvPicPr/>
          <p:nvPr/>
        </p:nvPicPr>
        <p:blipFill>
          <a:blip r:embed="rId1"/>
          <a:stretch/>
        </p:blipFill>
        <p:spPr>
          <a:xfrm>
            <a:off x="4724280" y="4191120"/>
            <a:ext cx="1860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 gave the book to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books-carry"/>
          <p:cNvPicPr/>
          <p:nvPr/>
        </p:nvPicPr>
        <p:blipFill>
          <a:blip r:embed="rId1"/>
          <a:stretch/>
        </p:blipFill>
        <p:spPr>
          <a:xfrm>
            <a:off x="3429000" y="2590920"/>
            <a:ext cx="355284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93680" y="110484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 the pronoun appears in the subject of a sentence, use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I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3429000"/>
            <a:ext cx="676296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I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s late for school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1981080" y="4419720"/>
            <a:ext cx="5335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"/>
          <p:cNvSpPr/>
          <p:nvPr/>
        </p:nvSpPr>
        <p:spPr>
          <a:xfrm>
            <a:off x="2819520" y="4419720"/>
            <a:ext cx="5029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0"/>
          <p:cNvGrpSpPr/>
          <p:nvPr/>
        </p:nvGrpSpPr>
        <p:grpSpPr>
          <a:xfrm>
            <a:off x="4724280" y="4648320"/>
            <a:ext cx="2514600" cy="1752120"/>
            <a:chOff x="4724280" y="4648320"/>
            <a:chExt cx="2514600" cy="1752120"/>
          </a:xfrm>
        </p:grpSpPr>
        <p:sp>
          <p:nvSpPr>
            <p:cNvPr id="98" name="AutoShape 7"/>
            <p:cNvSpPr/>
            <p:nvPr/>
          </p:nvSpPr>
          <p:spPr>
            <a:xfrm>
              <a:off x="4724280" y="4648320"/>
              <a:ext cx="457200" cy="1066680"/>
            </a:xfrm>
            <a:prstGeom prst="upArrow">
              <a:avLst>
                <a:gd name="adj1" fmla="val 50000"/>
                <a:gd name="adj2" fmla="val 5832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4800600" y="5638680"/>
              <a:ext cx="2438280" cy="761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Predicat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2209680" y="4876920"/>
            <a:ext cx="2514600" cy="1752120"/>
            <a:chOff x="2209680" y="4876920"/>
            <a:chExt cx="2514600" cy="1752120"/>
          </a:xfrm>
        </p:grpSpPr>
        <p:sp>
          <p:nvSpPr>
            <p:cNvPr id="101" name="AutoShape 12"/>
            <p:cNvSpPr/>
            <p:nvPr/>
          </p:nvSpPr>
          <p:spPr>
            <a:xfrm>
              <a:off x="2209680" y="4876920"/>
              <a:ext cx="457200" cy="1066680"/>
            </a:xfrm>
            <a:prstGeom prst="upArrow">
              <a:avLst>
                <a:gd name="adj1" fmla="val 50000"/>
                <a:gd name="adj2" fmla="val 5832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3"/>
            <p:cNvSpPr/>
            <p:nvPr/>
          </p:nvSpPr>
          <p:spPr>
            <a:xfrm>
              <a:off x="2286000" y="5867280"/>
              <a:ext cx="2438280" cy="761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Subjec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93680" y="110484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 the pronoun appears in the predicate part of the sentence, use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3429000"/>
            <a:ext cx="807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erry went home with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1752480" y="4191120"/>
            <a:ext cx="137160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81280" y="4191120"/>
            <a:ext cx="5029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6"/>
          <p:cNvGrpSpPr/>
          <p:nvPr/>
        </p:nvGrpSpPr>
        <p:grpSpPr>
          <a:xfrm>
            <a:off x="5181480" y="4267080"/>
            <a:ext cx="2514600" cy="1752840"/>
            <a:chOff x="5181480" y="4267080"/>
            <a:chExt cx="2514600" cy="1752840"/>
          </a:xfrm>
        </p:grpSpPr>
        <p:sp>
          <p:nvSpPr>
            <p:cNvPr id="108" name="AutoShape 7"/>
            <p:cNvSpPr/>
            <p:nvPr/>
          </p:nvSpPr>
          <p:spPr>
            <a:xfrm>
              <a:off x="5181480" y="4267080"/>
              <a:ext cx="457200" cy="1067040"/>
            </a:xfrm>
            <a:prstGeom prst="upArrow">
              <a:avLst>
                <a:gd name="adj1" fmla="val 50000"/>
                <a:gd name="adj2" fmla="val 5834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257800" y="5257800"/>
              <a:ext cx="2438280" cy="762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Predicat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9"/>
          <p:cNvGrpSpPr/>
          <p:nvPr/>
        </p:nvGrpSpPr>
        <p:grpSpPr>
          <a:xfrm>
            <a:off x="1828800" y="4343400"/>
            <a:ext cx="2514600" cy="1752120"/>
            <a:chOff x="1828800" y="4343400"/>
            <a:chExt cx="2514600" cy="1752120"/>
          </a:xfrm>
        </p:grpSpPr>
        <p:sp>
          <p:nvSpPr>
            <p:cNvPr id="111" name="AutoShape 10"/>
            <p:cNvSpPr/>
            <p:nvPr/>
          </p:nvSpPr>
          <p:spPr>
            <a:xfrm>
              <a:off x="1828800" y="4343400"/>
              <a:ext cx="457200" cy="1066680"/>
            </a:xfrm>
            <a:prstGeom prst="upArrow">
              <a:avLst>
                <a:gd name="adj1" fmla="val 50000"/>
                <a:gd name="adj2" fmla="val 5832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905120" y="5333760"/>
              <a:ext cx="2438280" cy="761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Subjec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I and Me With Another Na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imes we combine the pronouns I and me with another pers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etsy and 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ke to rea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V was too loud for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ob and 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6668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n using 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I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with another person, always put other person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name first. 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obby and 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broke the blue lamp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lamp2"/>
          <p:cNvPicPr/>
          <p:nvPr/>
        </p:nvPicPr>
        <p:blipFill>
          <a:blip r:embed="rId1"/>
          <a:stretch/>
        </p:blipFill>
        <p:spPr>
          <a:xfrm>
            <a:off x="4038480" y="2590920"/>
            <a:ext cx="2441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6:39:22Z</dcterms:created>
  <dc:creator>Connie Campbell</dc:creator>
  <dc:description/>
  <dc:language>en-US</dc:language>
  <cp:lastModifiedBy>teacher</cp:lastModifiedBy>
  <dcterms:modified xsi:type="dcterms:W3CDTF">2013-02-25T02:38:17Z</dcterms:modified>
  <cp:revision>8</cp:revision>
  <dc:subject/>
  <dc:title>I or Me?</dc:title>
</cp:coreProperties>
</file>